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7F6-F2B9-40B1-BA0D-7EB68C5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FB2-C024-4C8A-8B16-35AA7B01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A0C-EE0D-4518-BA3A-C42C0914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68E-268A-456B-94B2-22544E34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D5AA-8ED1-4B7C-807E-9A941041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2542-EB42-4579-B745-4870648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8A0C-30E8-4C5F-A150-A84100B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606F-6AF3-4D38-B1C3-E25930F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F169-052F-4116-B566-93A67FA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4981-92C1-4D67-B52E-D24659B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C995-E390-4E44-BFF7-58482A8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7F9-C76A-4CBE-BEA1-8418D83E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432-735C-4CA6-947B-895BB06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FB3-8570-48E9-A7B9-EA6A7B5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5190-5EB1-4288-AD7F-2589912D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1038-552F-42A6-8ACF-73C61034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F7D-B62A-4082-8295-CD7C2E1D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D81-ADD1-4723-BD04-7C0FA21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B6E-DDB9-45CC-838F-F6A4D30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7E7-DAFE-4D94-9F25-7C0F483C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CB7-0320-4B50-A602-CA0DB87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A0B-C657-4ED0-94DF-1C34CEA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C02-6CB1-4A0B-A222-39CE227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D24-5B87-4D05-89EF-C3721FC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535E-BAC3-4BF1-90C6-767C77125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43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FD85-0EB0-4DF1-B247-32FCD9B0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exile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Measures of Academic Progres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rientation for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7" descr="http://www.richland2.org/map/R2TV_MAP_Runner/img0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http://www.richland2.org/map/R2TV_MAP_Runner/img0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Results to Drive Lear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352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broken down by su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95280" y="1523880"/>
            <a:ext cx="7315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est and reports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d in fall and spring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grow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371600" y="502920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are cumulative to s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ver time.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“Value Add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or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Ps reports are aligned to the academic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match K-5 progres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show district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d for comparison with 500,000 others across the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orts show “Lexiles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lex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Name:  poway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ay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first visit to Lexile Frame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“analyze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with your rea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f “Back” button to mai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“Search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ent Guide to MA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them for your friends and neighb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952880" y="2571840"/>
          <a:ext cx="283860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71840"/>
                    <a:ext cx="28386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Guide to MA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tudent taking the test will       rece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2971800" y="3124080"/>
          <a:ext cx="52578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24080"/>
                    <a:ext cx="52578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http://www.richland2.org/map/R2TV_MAP_Runner/img00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http://www.richland2.org/map/R2TV_MAP_Runner/img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http://www.richland2.org/map/R2TV_MAP_Runner/img005.gif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http://www.richland2.org/map/R2TV_MAP_Runner/img0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http://www.richland2.org/map/R2TV_MAP_Runner/img0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http://www.richland2.org/map/R2TV_MAP_Runner/img00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http://www.richland2.org/map/R2TV_MAP_Runner/img00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http://www.richland2.org/map/R2TV_MAP_Runner/img0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22:56:04Z</dcterms:created>
  <dc:creator>Learning Support Services</dc:creator>
  <dc:description/>
  <dc:language>en-US</dc:language>
  <cp:lastModifiedBy>Jeff McQuistan</cp:lastModifiedBy>
  <dcterms:modified xsi:type="dcterms:W3CDTF">2011-02-17T19:55:18Z</dcterms:modified>
  <cp:revision>34</cp:revision>
  <dc:subject/>
  <dc:title>MAPs</dc:title>
</cp:coreProperties>
</file>